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7F7-6B46-4E6C-90B8-4751E49B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EE3-72FA-4196-8271-4EA066F8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16F-63FA-4648-BD3A-627BF208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723-5E55-4308-8814-E99572AE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01F-C9D9-47B0-A4CD-FB84490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964-5522-47AE-84FE-DAD1180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B3B-67DF-4786-82F5-00585524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7E6-2C64-41A1-974D-5908BBE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578-3E55-43AE-B0F0-0A3EB0D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FBE-FE59-408F-AD18-2C69748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B90-3D28-4C5A-9FE9-8BF6D26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FFD-5987-4977-9DA7-DFEB873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8F9-32BA-4385-8BC3-918B05E33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1680" y="0"/>
            <a:ext cx="236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 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M at Hom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and build a simple (at least 3-steps) RGM machine using everyday objects around your house.  In the space below, draw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el a diagram of your creation and write a description of how your machine works and what energy transformations/transfers occur.  Instead of drawing, you may take a photo of your machine and include it or you may record a video of your machine in action and e-mail it to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447920"/>
            <a:ext cx="8991360" cy="3581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781680" y="0"/>
            <a:ext cx="236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E: 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ASS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M at Home Assignment Grading Ru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will be using this rubric to score this assignment.  Be sure to include the required elements so you earn the maximum point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19320"/>
          <a:ext cx="8763120" cy="5551200"/>
        </p:xfrm>
        <a:graphic>
          <a:graphicData uri="http://schemas.openxmlformats.org/drawingml/2006/table">
            <a:tbl>
              <a:tblPr/>
              <a:tblGrid>
                <a:gridCol w="3381480"/>
                <a:gridCol w="1914480"/>
                <a:gridCol w="1793880"/>
                <a:gridCol w="167328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there 3 distinct step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contraption seem like it should work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re a labeled pictur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but   no labe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there a written descriptio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ritten description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lacking detail and qua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ough and well written description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e description include the correct energy transformation and transfer descrip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were correct, but some were incorre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1:21:37Z</dcterms:created>
  <dc:creator>krmihal</dc:creator>
  <dc:description/>
  <dc:language>en-US</dc:language>
  <cp:lastModifiedBy>krmihal</cp:lastModifiedBy>
  <dcterms:modified xsi:type="dcterms:W3CDTF">2012-05-01T11:21:58Z</dcterms:modified>
  <cp:revision>1</cp:revision>
  <dc:subject/>
  <dc:title>Slide 1</dc:title>
</cp:coreProperties>
</file>